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2782-1E08-44D3-8160-499139594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C90F-A825-4413-9617-16A3EA000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0A30-BFC3-4ECF-965D-6D262FE5E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8556-8386-45A0-8342-48048E298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FF9F-ED9F-4FD7-82B8-D0FD9799B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F2DE-826C-45FB-A17C-6C66249A8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87B0-8065-4939-A5F5-EC1DC9497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87EB-7844-4E36-8D47-6D9605E06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D3EE-A86B-4FEF-B8B8-C4142E54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BBA2-B81F-4B96-91F5-827356929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DBC0-6AC5-4200-BBEE-62C05C8E5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8DCA-0800-444D-861B-ED676AB31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243-4A87-4D35-9FAC-D671B92BA2B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7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lance Sheet Information on a Work Shee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0709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92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0606-66A5-4D3D-B46F-BB7CBCDAE4AF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ING OF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0710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81880" cy="250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1889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8520" y="2443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75360" y="3032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267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company on the firs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63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report on the secon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92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date of the report on the thir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268E-E8F1-482F-86BF-D2B4400DA1DC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TS AND LIABILITI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S OF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C21_blue_0711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381880" cy="227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754520" y="2484360"/>
            <a:ext cx="1787760" cy="411120"/>
            <a:chOff x="4754520" y="2484360"/>
            <a:chExt cx="1787760" cy="411120"/>
          </a:xfrm>
        </p:grpSpPr>
        <p:sp>
          <p:nvSpPr>
            <p:cNvPr id="106" name=""/>
            <p:cNvSpPr/>
            <p:nvPr/>
          </p:nvSpPr>
          <p:spPr>
            <a:xfrm>
              <a:off x="4754520" y="2484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1240" y="2489760"/>
              <a:ext cx="1211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i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838080" y="2484360"/>
            <a:ext cx="1447920" cy="411120"/>
            <a:chOff x="838080" y="2484360"/>
            <a:chExt cx="1447920" cy="411120"/>
          </a:xfrm>
        </p:grpSpPr>
        <p:sp>
          <p:nvSpPr>
            <p:cNvPr id="109" name=""/>
            <p:cNvSpPr/>
            <p:nvPr/>
          </p:nvSpPr>
          <p:spPr>
            <a:xfrm>
              <a:off x="838080" y="2484360"/>
              <a:ext cx="41148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9880" y="2489760"/>
              <a:ext cx="816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ss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2000" y="4267080"/>
            <a:ext cx="2406240" cy="411120"/>
            <a:chOff x="4572000" y="4267080"/>
            <a:chExt cx="2406240" cy="411120"/>
          </a:xfrm>
        </p:grpSpPr>
        <p:sp>
          <p:nvSpPr>
            <p:cNvPr id="112" name=""/>
            <p:cNvSpPr/>
            <p:nvPr/>
          </p:nvSpPr>
          <p:spPr>
            <a:xfrm>
              <a:off x="5165280" y="4272480"/>
              <a:ext cx="181296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otal Li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67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8600" y="3297240"/>
            <a:ext cx="2280600" cy="2448000"/>
            <a:chOff x="228600" y="3297240"/>
            <a:chExt cx="2280600" cy="2448000"/>
          </a:xfrm>
        </p:grpSpPr>
        <p:grpSp>
          <p:nvGrpSpPr>
            <p:cNvPr id="115" name=""/>
            <p:cNvGrpSpPr/>
            <p:nvPr/>
          </p:nvGrpSpPr>
          <p:grpSpPr>
            <a:xfrm>
              <a:off x="304920" y="3297240"/>
              <a:ext cx="455400" cy="2265480"/>
              <a:chOff x="304920" y="3297240"/>
              <a:chExt cx="455400" cy="2265480"/>
            </a:xfrm>
          </p:grpSpPr>
          <p:sp>
            <p:nvSpPr>
              <p:cNvPr id="116" name=""/>
              <p:cNvSpPr/>
              <p:nvPr/>
            </p:nvSpPr>
            <p:spPr>
              <a:xfrm>
                <a:off x="531720" y="3297240"/>
                <a:ext cx="228600" cy="1828800"/>
              </a:xfrm>
              <a:custGeom>
                <a:avLst/>
                <a:gdLst/>
                <a:ahLst/>
                <a:rect l="l" t="t" r="r" b="b"/>
                <a:pathLst>
                  <a:path w="144" h="1152">
                    <a:moveTo>
                      <a:pt x="144" y="0"/>
                    </a:moveTo>
                    <a:lnTo>
                      <a:pt x="0" y="0"/>
                    </a:lnTo>
                    <a:lnTo>
                      <a:pt x="0" y="1152"/>
                    </a:lnTo>
                    <a:lnTo>
                      <a:pt x="144" y="11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4191120"/>
                <a:ext cx="228600" cy="1371600"/>
              </a:xfrm>
              <a:custGeom>
                <a:avLst/>
                <a:gdLst/>
                <a:ahLst/>
                <a:rect l="l" t="t" r="r" b="b"/>
                <a:pathLst>
                  <a:path w="144" h="864">
                    <a:moveTo>
                      <a:pt x="144" y="0"/>
                    </a:moveTo>
                    <a:lnTo>
                      <a:pt x="0" y="0"/>
                    </a:lnTo>
                    <a:lnTo>
                      <a:pt x="0" y="8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5334120"/>
              <a:ext cx="2280600" cy="411120"/>
              <a:chOff x="228600" y="5334120"/>
              <a:chExt cx="2280600" cy="411120"/>
            </a:xfrm>
          </p:grpSpPr>
          <p:sp>
            <p:nvSpPr>
              <p:cNvPr id="119" name=""/>
              <p:cNvSpPr/>
              <p:nvPr/>
            </p:nvSpPr>
            <p:spPr>
              <a:xfrm>
                <a:off x="228600" y="533412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44200" y="5339520"/>
                <a:ext cx="16650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 titl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2981160" y="3297240"/>
            <a:ext cx="2334960" cy="2916360"/>
            <a:chOff x="2981160" y="3297240"/>
            <a:chExt cx="2334960" cy="2916360"/>
          </a:xfrm>
        </p:grpSpPr>
        <p:grpSp>
          <p:nvGrpSpPr>
            <p:cNvPr id="122" name=""/>
            <p:cNvGrpSpPr/>
            <p:nvPr/>
          </p:nvGrpSpPr>
          <p:grpSpPr>
            <a:xfrm>
              <a:off x="3201840" y="3297240"/>
              <a:ext cx="455760" cy="2722680"/>
              <a:chOff x="3201840" y="3297240"/>
              <a:chExt cx="455760" cy="2722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429000" y="3297240"/>
                <a:ext cx="228600" cy="1828800"/>
              </a:xfrm>
              <a:custGeom>
                <a:avLst/>
                <a:gdLst/>
                <a:ahLst/>
                <a:rect l="l" t="t" r="r" b="b"/>
                <a:pathLst>
                  <a:path w="144" h="1152">
                    <a:moveTo>
                      <a:pt x="144" y="0"/>
                    </a:moveTo>
                    <a:lnTo>
                      <a:pt x="0" y="0"/>
                    </a:lnTo>
                    <a:lnTo>
                      <a:pt x="0" y="1152"/>
                    </a:lnTo>
                    <a:lnTo>
                      <a:pt x="144" y="11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01840" y="4191120"/>
                <a:ext cx="228600" cy="1828800"/>
              </a:xfrm>
              <a:custGeom>
                <a:avLst/>
                <a:gdLst/>
                <a:ahLst/>
                <a:rect l="l" t="t" r="r" b="b"/>
                <a:pathLst>
                  <a:path w="144" h="864">
                    <a:moveTo>
                      <a:pt x="144" y="0"/>
                    </a:moveTo>
                    <a:lnTo>
                      <a:pt x="0" y="0"/>
                    </a:lnTo>
                    <a:lnTo>
                      <a:pt x="0" y="8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981160" y="5802480"/>
              <a:ext cx="2334960" cy="411120"/>
              <a:chOff x="2981160" y="5802480"/>
              <a:chExt cx="2334960" cy="411120"/>
            </a:xfrm>
          </p:grpSpPr>
          <p:sp>
            <p:nvSpPr>
              <p:cNvPr id="126" name=""/>
              <p:cNvSpPr/>
              <p:nvPr/>
            </p:nvSpPr>
            <p:spPr>
              <a:xfrm>
                <a:off x="2981160" y="58024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41760" y="5807880"/>
                <a:ext cx="16743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sset amou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5746680" y="3927600"/>
            <a:ext cx="1873440" cy="1436400"/>
            <a:chOff x="5746680" y="3927600"/>
            <a:chExt cx="1873440" cy="1436400"/>
          </a:xfrm>
        </p:grpSpPr>
        <p:sp>
          <p:nvSpPr>
            <p:cNvPr id="129" name=""/>
            <p:cNvSpPr/>
            <p:nvPr/>
          </p:nvSpPr>
          <p:spPr>
            <a:xfrm>
              <a:off x="7391520" y="392760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5746680" y="4952880"/>
              <a:ext cx="1873440" cy="411120"/>
              <a:chOff x="5746680" y="4952880"/>
              <a:chExt cx="1873440" cy="411120"/>
            </a:xfrm>
          </p:grpSpPr>
          <p:sp>
            <p:nvSpPr>
              <p:cNvPr id="131" name=""/>
              <p:cNvSpPr/>
              <p:nvPr/>
            </p:nvSpPr>
            <p:spPr>
              <a:xfrm>
                <a:off x="5746680" y="4958280"/>
                <a:ext cx="12765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ngle l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09000" y="49528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6294600" y="1371600"/>
            <a:ext cx="2598120" cy="2570040"/>
            <a:chOff x="6294600" y="1371600"/>
            <a:chExt cx="2598120" cy="2570040"/>
          </a:xfrm>
        </p:grpSpPr>
        <p:grpSp>
          <p:nvGrpSpPr>
            <p:cNvPr id="134" name=""/>
            <p:cNvGrpSpPr/>
            <p:nvPr/>
          </p:nvGrpSpPr>
          <p:grpSpPr>
            <a:xfrm>
              <a:off x="8381880" y="1676520"/>
              <a:ext cx="457200" cy="2265120"/>
              <a:chOff x="8381880" y="1676520"/>
              <a:chExt cx="457200" cy="226512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3332160"/>
                <a:ext cx="228600" cy="6094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84"/>
                    </a:lnTo>
                    <a:lnTo>
                      <a:pt x="0" y="38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610480" y="1676520"/>
                <a:ext cx="228600" cy="1952640"/>
              </a:xfrm>
              <a:custGeom>
                <a:avLst/>
                <a:gdLst/>
                <a:ahLst/>
                <a:rect l="l" t="t" r="r" b="b"/>
                <a:pathLst>
                  <a:path w="144" h="960">
                    <a:moveTo>
                      <a:pt x="0" y="960"/>
                    </a:moveTo>
                    <a:lnTo>
                      <a:pt x="144" y="960"/>
                    </a:lnTo>
                    <a:lnTo>
                      <a:pt x="1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294600" y="1371600"/>
              <a:ext cx="2598120" cy="411120"/>
              <a:chOff x="6294600" y="1371600"/>
              <a:chExt cx="2598120" cy="411120"/>
            </a:xfrm>
          </p:grpSpPr>
          <p:sp>
            <p:nvSpPr>
              <p:cNvPr id="138" name=""/>
              <p:cNvSpPr/>
              <p:nvPr/>
            </p:nvSpPr>
            <p:spPr>
              <a:xfrm>
                <a:off x="8481960" y="1371600"/>
                <a:ext cx="41076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94600" y="1377000"/>
                <a:ext cx="19836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ability amou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5380560" y="1927080"/>
            <a:ext cx="2217240" cy="2014560"/>
            <a:chOff x="5380560" y="1927080"/>
            <a:chExt cx="2217240" cy="2014560"/>
          </a:xfrm>
        </p:grpSpPr>
        <p:grpSp>
          <p:nvGrpSpPr>
            <p:cNvPr id="141" name=""/>
            <p:cNvGrpSpPr/>
            <p:nvPr/>
          </p:nvGrpSpPr>
          <p:grpSpPr>
            <a:xfrm>
              <a:off x="6927840" y="2104920"/>
              <a:ext cx="463680" cy="1836720"/>
              <a:chOff x="6927840" y="2104920"/>
              <a:chExt cx="463680" cy="1836720"/>
            </a:xfrm>
          </p:grpSpPr>
          <p:sp>
            <p:nvSpPr>
              <p:cNvPr id="142" name=""/>
              <p:cNvSpPr/>
              <p:nvPr/>
            </p:nvSpPr>
            <p:spPr>
              <a:xfrm>
                <a:off x="6927840" y="3332160"/>
                <a:ext cx="228600" cy="6094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84"/>
                    </a:lnTo>
                    <a:lnTo>
                      <a:pt x="0" y="38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62920" y="2104920"/>
                <a:ext cx="228600" cy="1524240"/>
              </a:xfrm>
              <a:custGeom>
                <a:avLst/>
                <a:gdLst/>
                <a:ahLst/>
                <a:rect l="l" t="t" r="r" b="b"/>
                <a:pathLst>
                  <a:path w="144" h="960">
                    <a:moveTo>
                      <a:pt x="0" y="960"/>
                    </a:moveTo>
                    <a:lnTo>
                      <a:pt x="144" y="960"/>
                    </a:lnTo>
                    <a:lnTo>
                      <a:pt x="1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380560" y="1927080"/>
              <a:ext cx="2217240" cy="411480"/>
              <a:chOff x="5380560" y="1927080"/>
              <a:chExt cx="2217240" cy="411480"/>
            </a:xfrm>
          </p:grpSpPr>
          <p:sp>
            <p:nvSpPr>
              <p:cNvPr id="145" name=""/>
              <p:cNvSpPr/>
              <p:nvPr/>
            </p:nvSpPr>
            <p:spPr>
              <a:xfrm>
                <a:off x="7186680" y="192708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80560" y="1932480"/>
                <a:ext cx="160092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 tit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5736240" y="4191120"/>
            <a:ext cx="2586600" cy="1782720"/>
            <a:chOff x="5736240" y="4191120"/>
            <a:chExt cx="2586600" cy="1782720"/>
          </a:xfrm>
        </p:grpSpPr>
        <p:sp>
          <p:nvSpPr>
            <p:cNvPr id="148" name=""/>
            <p:cNvSpPr/>
            <p:nvPr/>
          </p:nvSpPr>
          <p:spPr>
            <a:xfrm>
              <a:off x="8115120" y="4191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36240" y="5562720"/>
              <a:ext cx="2586600" cy="411120"/>
              <a:chOff x="5736240" y="5562720"/>
              <a:chExt cx="2586600" cy="411120"/>
            </a:xfrm>
          </p:grpSpPr>
          <p:sp>
            <p:nvSpPr>
              <p:cNvPr id="150" name=""/>
              <p:cNvSpPr/>
              <p:nvPr/>
            </p:nvSpPr>
            <p:spPr>
              <a:xfrm>
                <a:off x="5736240" y="5568120"/>
                <a:ext cx="20019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of liabil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12080" y="5562720"/>
                <a:ext cx="41076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E6F5-F1E6-4954-970A-1E64B16784F7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EQUITY SECTION OF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C21_blue_071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7924680" cy="3314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43400" y="4495680"/>
            <a:ext cx="2463840" cy="710280"/>
            <a:chOff x="4343400" y="4495680"/>
            <a:chExt cx="2463840" cy="710280"/>
          </a:xfrm>
        </p:grpSpPr>
        <p:sp>
          <p:nvSpPr>
            <p:cNvPr id="156" name=""/>
            <p:cNvSpPr/>
            <p:nvPr/>
          </p:nvSpPr>
          <p:spPr>
            <a:xfrm>
              <a:off x="4343400" y="4495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0600" y="4502160"/>
              <a:ext cx="182664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otal Liab. and 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wner’s Eq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04920" y="4495680"/>
            <a:ext cx="2083680" cy="411120"/>
            <a:chOff x="304920" y="4495680"/>
            <a:chExt cx="2083680" cy="411120"/>
          </a:xfrm>
        </p:grpSpPr>
        <p:sp>
          <p:nvSpPr>
            <p:cNvPr id="159" name=""/>
            <p:cNvSpPr/>
            <p:nvPr/>
          </p:nvSpPr>
          <p:spPr>
            <a:xfrm>
              <a:off x="304920" y="4495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0560" y="4503600"/>
              <a:ext cx="1418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otal Ass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04920" y="1371600"/>
            <a:ext cx="4647960" cy="2209680"/>
            <a:chOff x="304920" y="1371600"/>
            <a:chExt cx="4647960" cy="2209680"/>
          </a:xfrm>
        </p:grpSpPr>
        <p:sp>
          <p:nvSpPr>
            <p:cNvPr id="162" name=""/>
            <p:cNvSpPr/>
            <p:nvPr/>
          </p:nvSpPr>
          <p:spPr>
            <a:xfrm>
              <a:off x="2370240" y="1523880"/>
              <a:ext cx="2582640" cy="2057400"/>
            </a:xfrm>
            <a:custGeom>
              <a:avLst/>
              <a:gdLst/>
              <a:ahLst/>
              <a:rect l="l" t="t" r="r" b="b"/>
              <a:pathLst>
                <a:path w="1680" h="1440">
                  <a:moveTo>
                    <a:pt x="1680" y="1440"/>
                  </a:moveTo>
                  <a:lnTo>
                    <a:pt x="1296" y="1440"/>
                  </a:lnTo>
                  <a:lnTo>
                    <a:pt x="129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920" y="1371600"/>
              <a:ext cx="2423520" cy="411120"/>
              <a:chOff x="304920" y="1371600"/>
              <a:chExt cx="2423520" cy="411120"/>
            </a:xfrm>
          </p:grpSpPr>
          <p:sp>
            <p:nvSpPr>
              <p:cNvPr id="164" name=""/>
              <p:cNvSpPr/>
              <p:nvPr/>
            </p:nvSpPr>
            <p:spPr>
              <a:xfrm>
                <a:off x="304920" y="13716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41400" y="1378080"/>
                <a:ext cx="178704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wner’s Equ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04920" y="1913040"/>
            <a:ext cx="3962160" cy="1917720"/>
            <a:chOff x="304920" y="1913040"/>
            <a:chExt cx="3962160" cy="1917720"/>
          </a:xfrm>
        </p:grpSpPr>
        <p:sp>
          <p:nvSpPr>
            <p:cNvPr id="167" name=""/>
            <p:cNvSpPr/>
            <p:nvPr/>
          </p:nvSpPr>
          <p:spPr>
            <a:xfrm>
              <a:off x="1503360" y="2133720"/>
              <a:ext cx="2763720" cy="1697040"/>
            </a:xfrm>
            <a:custGeom>
              <a:avLst/>
              <a:gdLst/>
              <a:ahLst/>
              <a:rect l="l" t="t" r="r" b="b"/>
              <a:pathLst>
                <a:path w="1539" h="1178">
                  <a:moveTo>
                    <a:pt x="1539" y="1178"/>
                  </a:moveTo>
                  <a:lnTo>
                    <a:pt x="1013" y="1178"/>
                  </a:lnTo>
                  <a:lnTo>
                    <a:pt x="101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04920" y="1913040"/>
              <a:ext cx="2185200" cy="411120"/>
              <a:chOff x="304920" y="1913040"/>
              <a:chExt cx="2185200" cy="41112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91304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24120" y="1920960"/>
                <a:ext cx="15660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 tit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564240" y="1951200"/>
            <a:ext cx="2351160" cy="1914480"/>
            <a:chOff x="6564240" y="1951200"/>
            <a:chExt cx="2351160" cy="1914480"/>
          </a:xfrm>
        </p:grpSpPr>
        <p:sp>
          <p:nvSpPr>
            <p:cNvPr id="172" name=""/>
            <p:cNvSpPr/>
            <p:nvPr/>
          </p:nvSpPr>
          <p:spPr>
            <a:xfrm>
              <a:off x="8077320" y="2189160"/>
              <a:ext cx="685800" cy="1676520"/>
            </a:xfrm>
            <a:custGeom>
              <a:avLst/>
              <a:gdLst/>
              <a:ahLst/>
              <a:rect l="l" t="t" r="r" b="b"/>
              <a:pathLst>
                <a:path w="144" h="1152">
                  <a:moveTo>
                    <a:pt x="0" y="1152"/>
                  </a:moveTo>
                  <a:lnTo>
                    <a:pt x="144" y="115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564240" y="1951200"/>
              <a:ext cx="2351160" cy="411120"/>
              <a:chOff x="6564240" y="1951200"/>
              <a:chExt cx="2351160" cy="411120"/>
            </a:xfrm>
          </p:grpSpPr>
          <p:sp>
            <p:nvSpPr>
              <p:cNvPr id="174" name=""/>
              <p:cNvSpPr/>
              <p:nvPr/>
            </p:nvSpPr>
            <p:spPr>
              <a:xfrm>
                <a:off x="8504280" y="19512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64240" y="1957320"/>
                <a:ext cx="17427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pital 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5486400" y="1417680"/>
            <a:ext cx="1901520" cy="2741400"/>
            <a:chOff x="5486400" y="1417680"/>
            <a:chExt cx="1901520" cy="2741400"/>
          </a:xfrm>
        </p:grpSpPr>
        <p:sp>
          <p:nvSpPr>
            <p:cNvPr id="177" name=""/>
            <p:cNvSpPr/>
            <p:nvPr/>
          </p:nvSpPr>
          <p:spPr>
            <a:xfrm>
              <a:off x="5715000" y="1600200"/>
              <a:ext cx="1389240" cy="255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486400" y="1417680"/>
              <a:ext cx="1901520" cy="411120"/>
              <a:chOff x="5486400" y="1417680"/>
              <a:chExt cx="1901520" cy="411120"/>
            </a:xfrm>
          </p:grpSpPr>
          <p:sp>
            <p:nvSpPr>
              <p:cNvPr id="179" name=""/>
              <p:cNvSpPr/>
              <p:nvPr/>
            </p:nvSpPr>
            <p:spPr>
              <a:xfrm>
                <a:off x="5486400" y="14176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11360" y="1425600"/>
                <a:ext cx="12765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ngle l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700560" y="3124080"/>
            <a:ext cx="2652120" cy="1218960"/>
            <a:chOff x="700560" y="3124080"/>
            <a:chExt cx="2652120" cy="1218960"/>
          </a:xfrm>
        </p:grpSpPr>
        <p:sp>
          <p:nvSpPr>
            <p:cNvPr id="182" name=""/>
            <p:cNvSpPr/>
            <p:nvPr/>
          </p:nvSpPr>
          <p:spPr>
            <a:xfrm flipV="1">
              <a:off x="2819520" y="3276000"/>
              <a:ext cx="533160" cy="1066680"/>
            </a:xfrm>
            <a:custGeom>
              <a:avLst/>
              <a:gdLst/>
              <a:ahLst/>
              <a:rect l="l" t="t" r="r" b="b"/>
              <a:pathLst>
                <a:path w="336" h="672">
                  <a:moveTo>
                    <a:pt x="336" y="0"/>
                  </a:moveTo>
                  <a:lnTo>
                    <a:pt x="0" y="0"/>
                  </a:ln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00560" y="3124080"/>
              <a:ext cx="2270880" cy="411120"/>
              <a:chOff x="700560" y="3124080"/>
              <a:chExt cx="2270880" cy="411120"/>
            </a:xfrm>
          </p:grpSpPr>
          <p:sp>
            <p:nvSpPr>
              <p:cNvPr id="184" name=""/>
              <p:cNvSpPr/>
              <p:nvPr/>
            </p:nvSpPr>
            <p:spPr>
              <a:xfrm>
                <a:off x="2560320" y="31240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0560" y="3130560"/>
                <a:ext cx="165132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of ass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4068720" y="4343400"/>
            <a:ext cx="4846680" cy="1981080"/>
            <a:chOff x="4068720" y="4343400"/>
            <a:chExt cx="4846680" cy="1981080"/>
          </a:xfrm>
        </p:grpSpPr>
        <p:sp>
          <p:nvSpPr>
            <p:cNvPr id="187" name=""/>
            <p:cNvSpPr/>
            <p:nvPr/>
          </p:nvSpPr>
          <p:spPr>
            <a:xfrm>
              <a:off x="8077320" y="4343400"/>
              <a:ext cx="685800" cy="1736640"/>
            </a:xfrm>
            <a:custGeom>
              <a:avLst/>
              <a:gdLst/>
              <a:ahLst/>
              <a:rect l="l" t="t" r="r" b="b"/>
              <a:pathLst>
                <a:path w="192" h="960">
                  <a:moveTo>
                    <a:pt x="0" y="0"/>
                  </a:moveTo>
                  <a:lnTo>
                    <a:pt x="192" y="0"/>
                  </a:lnTo>
                  <a:lnTo>
                    <a:pt x="192" y="9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068720" y="5913360"/>
              <a:ext cx="4846680" cy="411120"/>
              <a:chOff x="4068720" y="5913360"/>
              <a:chExt cx="4846680" cy="411120"/>
            </a:xfrm>
          </p:grpSpPr>
          <p:sp>
            <p:nvSpPr>
              <p:cNvPr id="189" name=""/>
              <p:cNvSpPr/>
              <p:nvPr/>
            </p:nvSpPr>
            <p:spPr>
              <a:xfrm>
                <a:off x="8504280" y="59133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68720" y="5919840"/>
                <a:ext cx="42069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of Liabilities and Owner’s Equ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646640" y="4495680"/>
            <a:ext cx="5897160" cy="1249560"/>
            <a:chOff x="1646640" y="4495680"/>
            <a:chExt cx="5897160" cy="1249560"/>
          </a:xfrm>
        </p:grpSpPr>
        <p:sp>
          <p:nvSpPr>
            <p:cNvPr id="192" name=""/>
            <p:cNvSpPr/>
            <p:nvPr/>
          </p:nvSpPr>
          <p:spPr>
            <a:xfrm>
              <a:off x="3795840" y="4495680"/>
              <a:ext cx="3747960" cy="1067040"/>
            </a:xfrm>
            <a:custGeom>
              <a:avLst/>
              <a:gdLst/>
              <a:ahLst/>
              <a:rect l="l" t="t" r="r" b="b"/>
              <a:pathLst>
                <a:path w="2448" h="624">
                  <a:moveTo>
                    <a:pt x="0" y="0"/>
                  </a:moveTo>
                  <a:lnTo>
                    <a:pt x="0" y="624"/>
                  </a:lnTo>
                  <a:lnTo>
                    <a:pt x="2448" y="624"/>
                  </a:lnTo>
                  <a:lnTo>
                    <a:pt x="24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646640" y="5334120"/>
              <a:ext cx="2376000" cy="411120"/>
              <a:chOff x="1646640" y="5334120"/>
              <a:chExt cx="2376000" cy="411120"/>
            </a:xfrm>
          </p:grpSpPr>
          <p:sp>
            <p:nvSpPr>
              <p:cNvPr id="194" name=""/>
              <p:cNvSpPr/>
              <p:nvPr/>
            </p:nvSpPr>
            <p:spPr>
              <a:xfrm>
                <a:off x="3611520" y="533412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646640" y="5340240"/>
                <a:ext cx="17290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are tota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6172200" y="5334120"/>
            <a:ext cx="2113920" cy="411120"/>
            <a:chOff x="6172200" y="5334120"/>
            <a:chExt cx="2113920" cy="411120"/>
          </a:xfrm>
        </p:grpSpPr>
        <p:sp>
          <p:nvSpPr>
            <p:cNvPr id="197" name=""/>
            <p:cNvSpPr/>
            <p:nvPr/>
          </p:nvSpPr>
          <p:spPr>
            <a:xfrm>
              <a:off x="6172200" y="5334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10120" y="5340240"/>
              <a:ext cx="14760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uble l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B2CE-04A6-4277-B194-423E9111EF60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EQUITY REPORTED IN DETAIL ON A BALANC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21_blue_0715" descr=""/>
          <p:cNvPicPr/>
          <p:nvPr/>
        </p:nvPicPr>
        <p:blipFill>
          <a:blip r:embed="rId1"/>
          <a:srcRect l="0" t="0" r="0" b="28070"/>
          <a:stretch/>
        </p:blipFill>
        <p:spPr>
          <a:xfrm>
            <a:off x="990720" y="3152880"/>
            <a:ext cx="7162560" cy="1960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31480" y="2558880"/>
            <a:ext cx="3499560" cy="1175040"/>
            <a:chOff x="2931480" y="2558880"/>
            <a:chExt cx="3499560" cy="1175040"/>
          </a:xfrm>
        </p:grpSpPr>
        <p:sp>
          <p:nvSpPr>
            <p:cNvPr id="203" name=""/>
            <p:cNvSpPr/>
            <p:nvPr/>
          </p:nvSpPr>
          <p:spPr>
            <a:xfrm>
              <a:off x="6227640" y="28195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931480" y="2558880"/>
              <a:ext cx="3499560" cy="411480"/>
              <a:chOff x="2931480" y="2558880"/>
              <a:chExt cx="3499560" cy="411480"/>
            </a:xfrm>
          </p:grpSpPr>
          <p:sp>
            <p:nvSpPr>
              <p:cNvPr id="205" name=""/>
              <p:cNvSpPr/>
              <p:nvPr/>
            </p:nvSpPr>
            <p:spPr>
              <a:xfrm>
                <a:off x="6019920" y="255888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31480" y="2558880"/>
                <a:ext cx="28126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eginning capital 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6314040" y="1965240"/>
            <a:ext cx="1839240" cy="2378160"/>
            <a:chOff x="6314040" y="1965240"/>
            <a:chExt cx="1839240" cy="2378160"/>
          </a:xfrm>
        </p:grpSpPr>
        <p:sp>
          <p:nvSpPr>
            <p:cNvPr id="208" name=""/>
            <p:cNvSpPr/>
            <p:nvPr/>
          </p:nvSpPr>
          <p:spPr>
            <a:xfrm>
              <a:off x="6781680" y="2209680"/>
              <a:ext cx="1177920" cy="213372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0" y="1344"/>
                  </a:moveTo>
                  <a:lnTo>
                    <a:pt x="816" y="1344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314040" y="1965240"/>
              <a:ext cx="1839240" cy="411120"/>
              <a:chOff x="6314040" y="1965240"/>
              <a:chExt cx="1839240" cy="41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7742160" y="196524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14040" y="1965240"/>
                <a:ext cx="127044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iffer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5749560" y="1371600"/>
            <a:ext cx="3175200" cy="3200400"/>
            <a:chOff x="5749560" y="1371600"/>
            <a:chExt cx="3175200" cy="3200400"/>
          </a:xfrm>
        </p:grpSpPr>
        <p:sp>
          <p:nvSpPr>
            <p:cNvPr id="213" name=""/>
            <p:cNvSpPr/>
            <p:nvPr/>
          </p:nvSpPr>
          <p:spPr>
            <a:xfrm>
              <a:off x="8001000" y="1600200"/>
              <a:ext cx="741240" cy="2971800"/>
            </a:xfrm>
            <a:custGeom>
              <a:avLst/>
              <a:gdLst/>
              <a:ahLst/>
              <a:rect l="l" t="t" r="r" b="b"/>
              <a:pathLst>
                <a:path w="672" h="1872">
                  <a:moveTo>
                    <a:pt x="0" y="1872"/>
                  </a:moveTo>
                  <a:lnTo>
                    <a:pt x="672" y="1872"/>
                  </a:lnTo>
                  <a:lnTo>
                    <a:pt x="6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5749560" y="1371600"/>
              <a:ext cx="3175200" cy="411120"/>
              <a:chOff x="5749560" y="1371600"/>
              <a:chExt cx="3175200" cy="411120"/>
            </a:xfrm>
          </p:grpSpPr>
          <p:sp>
            <p:nvSpPr>
              <p:cNvPr id="215" name=""/>
              <p:cNvSpPr/>
              <p:nvPr/>
            </p:nvSpPr>
            <p:spPr>
              <a:xfrm>
                <a:off x="8513640" y="13716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9560" y="1371600"/>
                <a:ext cx="25293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ent capital 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762120" y="1965240"/>
            <a:ext cx="2559600" cy="1920960"/>
            <a:chOff x="762120" y="1965240"/>
            <a:chExt cx="2559600" cy="1920960"/>
          </a:xfrm>
        </p:grpSpPr>
        <p:sp>
          <p:nvSpPr>
            <p:cNvPr id="218" name=""/>
            <p:cNvSpPr/>
            <p:nvPr/>
          </p:nvSpPr>
          <p:spPr>
            <a:xfrm>
              <a:off x="973080" y="2362320"/>
              <a:ext cx="246240" cy="1523880"/>
            </a:xfrm>
            <a:custGeom>
              <a:avLst/>
              <a:gdLst/>
              <a:ahLst/>
              <a:rect l="l" t="t" r="r" b="b"/>
              <a:pathLst>
                <a:path w="528" h="1392">
                  <a:moveTo>
                    <a:pt x="0" y="0"/>
                  </a:moveTo>
                  <a:lnTo>
                    <a:pt x="0" y="1392"/>
                  </a:lnTo>
                  <a:lnTo>
                    <a:pt x="528" y="13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762120" y="1965240"/>
              <a:ext cx="2559600" cy="411120"/>
              <a:chOff x="762120" y="1965240"/>
              <a:chExt cx="2559600" cy="411120"/>
            </a:xfrm>
          </p:grpSpPr>
          <p:sp>
            <p:nvSpPr>
              <p:cNvPr id="220" name=""/>
              <p:cNvSpPr/>
              <p:nvPr/>
            </p:nvSpPr>
            <p:spPr>
              <a:xfrm>
                <a:off x="762120" y="1965240"/>
                <a:ext cx="41076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38120" y="1965240"/>
                <a:ext cx="19836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eginning capi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304920" y="1371600"/>
            <a:ext cx="1900080" cy="2743200"/>
            <a:chOff x="304920" y="1371600"/>
            <a:chExt cx="1900080" cy="2743200"/>
          </a:xfrm>
        </p:grpSpPr>
        <p:sp>
          <p:nvSpPr>
            <p:cNvPr id="223" name=""/>
            <p:cNvSpPr/>
            <p:nvPr/>
          </p:nvSpPr>
          <p:spPr>
            <a:xfrm>
              <a:off x="533520" y="1600200"/>
              <a:ext cx="685800" cy="2514600"/>
            </a:xfrm>
            <a:custGeom>
              <a:avLst/>
              <a:gdLst/>
              <a:ahLst/>
              <a:rect l="l" t="t" r="r" b="b"/>
              <a:pathLst>
                <a:path w="528" h="1392">
                  <a:moveTo>
                    <a:pt x="0" y="0"/>
                  </a:moveTo>
                  <a:lnTo>
                    <a:pt x="0" y="1392"/>
                  </a:lnTo>
                  <a:lnTo>
                    <a:pt x="528" y="13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04920" y="1371600"/>
              <a:ext cx="1900080" cy="411120"/>
              <a:chOff x="304920" y="1371600"/>
              <a:chExt cx="1900080" cy="411120"/>
            </a:xfrm>
          </p:grpSpPr>
          <p:sp>
            <p:nvSpPr>
              <p:cNvPr id="225" name=""/>
              <p:cNvSpPr/>
              <p:nvPr/>
            </p:nvSpPr>
            <p:spPr>
              <a:xfrm>
                <a:off x="304920" y="137160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56800" y="1371600"/>
                <a:ext cx="13482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t Inco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04920" y="4343400"/>
            <a:ext cx="1581120" cy="1960920"/>
            <a:chOff x="304920" y="4343400"/>
            <a:chExt cx="1581120" cy="1960920"/>
          </a:xfrm>
        </p:grpSpPr>
        <p:sp>
          <p:nvSpPr>
            <p:cNvPr id="228" name=""/>
            <p:cNvSpPr/>
            <p:nvPr/>
          </p:nvSpPr>
          <p:spPr>
            <a:xfrm>
              <a:off x="533520" y="4343400"/>
              <a:ext cx="685800" cy="1752480"/>
            </a:xfrm>
            <a:custGeom>
              <a:avLst/>
              <a:gdLst/>
              <a:ahLst/>
              <a:rect l="l" t="t" r="r" b="b"/>
              <a:pathLst>
                <a:path w="576" h="1104">
                  <a:moveTo>
                    <a:pt x="576" y="0"/>
                  </a:moveTo>
                  <a:lnTo>
                    <a:pt x="0" y="0"/>
                  </a:lnTo>
                  <a:lnTo>
                    <a:pt x="0" y="1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04920" y="5891040"/>
              <a:ext cx="1581120" cy="413280"/>
              <a:chOff x="304920" y="5891040"/>
              <a:chExt cx="1581120" cy="413280"/>
            </a:xfrm>
          </p:grpSpPr>
          <p:sp>
            <p:nvSpPr>
              <p:cNvPr id="230" name=""/>
              <p:cNvSpPr/>
              <p:nvPr/>
            </p:nvSpPr>
            <p:spPr>
              <a:xfrm>
                <a:off x="304920" y="589104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160" y="5905440"/>
                <a:ext cx="10738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raw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762120" y="4572000"/>
            <a:ext cx="2210400" cy="1122480"/>
            <a:chOff x="762120" y="4572000"/>
            <a:chExt cx="2210400" cy="1122480"/>
          </a:xfrm>
        </p:grpSpPr>
        <p:sp>
          <p:nvSpPr>
            <p:cNvPr id="233" name=""/>
            <p:cNvSpPr/>
            <p:nvPr/>
          </p:nvSpPr>
          <p:spPr>
            <a:xfrm>
              <a:off x="973080" y="4572000"/>
              <a:ext cx="246240" cy="914400"/>
            </a:xfrm>
            <a:custGeom>
              <a:avLst/>
              <a:gdLst/>
              <a:ahLst/>
              <a:rect l="l" t="t" r="r" b="b"/>
              <a:pathLst>
                <a:path w="576" h="1104">
                  <a:moveTo>
                    <a:pt x="576" y="0"/>
                  </a:moveTo>
                  <a:lnTo>
                    <a:pt x="0" y="0"/>
                  </a:lnTo>
                  <a:lnTo>
                    <a:pt x="0" y="1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62120" y="5283360"/>
              <a:ext cx="2210400" cy="411120"/>
              <a:chOff x="762120" y="5283360"/>
              <a:chExt cx="2210400" cy="411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313640" y="5283360"/>
                <a:ext cx="165888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nding capi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2120" y="52833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3352680" y="4890960"/>
            <a:ext cx="4568400" cy="1413360"/>
            <a:chOff x="3352680" y="4890960"/>
            <a:chExt cx="4568400" cy="1413360"/>
          </a:xfrm>
        </p:grpSpPr>
        <p:sp>
          <p:nvSpPr>
            <p:cNvPr id="238" name=""/>
            <p:cNvSpPr/>
            <p:nvPr/>
          </p:nvSpPr>
          <p:spPr>
            <a:xfrm>
              <a:off x="3581280" y="489096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352680" y="5891040"/>
              <a:ext cx="4568400" cy="413280"/>
              <a:chOff x="3352680" y="5891040"/>
              <a:chExt cx="4568400" cy="413280"/>
            </a:xfrm>
          </p:grpSpPr>
          <p:sp>
            <p:nvSpPr>
              <p:cNvPr id="240" name=""/>
              <p:cNvSpPr/>
              <p:nvPr/>
            </p:nvSpPr>
            <p:spPr>
              <a:xfrm>
                <a:off x="3352680" y="5891040"/>
                <a:ext cx="411120" cy="411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89880" y="5905440"/>
                <a:ext cx="393120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Liabilities and Owner’s Equ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5068800" y="4460760"/>
            <a:ext cx="1832040" cy="1233720"/>
            <a:chOff x="5068800" y="4460760"/>
            <a:chExt cx="1832040" cy="1233720"/>
          </a:xfrm>
        </p:grpSpPr>
        <p:sp>
          <p:nvSpPr>
            <p:cNvPr id="243" name=""/>
            <p:cNvSpPr/>
            <p:nvPr/>
          </p:nvSpPr>
          <p:spPr>
            <a:xfrm>
              <a:off x="5257800" y="446076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068800" y="5283360"/>
              <a:ext cx="1832040" cy="411120"/>
              <a:chOff x="5068800" y="5283360"/>
              <a:chExt cx="1832040" cy="411120"/>
            </a:xfrm>
          </p:grpSpPr>
          <p:sp>
            <p:nvSpPr>
              <p:cNvPr id="245" name=""/>
              <p:cNvSpPr/>
              <p:nvPr/>
            </p:nvSpPr>
            <p:spPr>
              <a:xfrm>
                <a:off x="5068800" y="52833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24280" y="5283360"/>
                <a:ext cx="1276560" cy="39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ngle l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EE80-2255-46C6-B8C7-39859F2ADAEF}" type="slidenum">
              <a:t>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04Z</dcterms:created>
  <dc:creator>M. C. McLaughlin</dc:creator>
  <dc:description/>
  <dc:language>en-US</dc:language>
  <cp:lastModifiedBy>M. C. McLaughlin</cp:lastModifiedBy>
  <dcterms:modified xsi:type="dcterms:W3CDTF">2005-04-22T22:03:15Z</dcterms:modified>
  <cp:revision>22</cp:revision>
  <dc:subject/>
  <dc:title>Lesson 7-1</dc:title>
</cp:coreProperties>
</file>